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cepts:  Expressions are values, value depends on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lative positions of x, 2x, x/3 are always the same – location of x+1 varies depending on value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needs to be placed to determine the value of x?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does (x+1)/x show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ints on the graph represent the relationship between two “quantities”, whose magnitudes are linear measur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axes are number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magnitude is distance from ze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units are different (vari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equires fraction as operator (1/2 of 2 billion etc.) to extract meaning from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ugges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ncourage participants to ask for help if they have trouble figuring out where there fraction g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estion class about density of fractions, whole, partitioning, equivalent fractions, unit fracito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vide class into groups of  6 for next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eachers may notice math talk, questioning, partitioning, equivalence, defining the whole, justifying, strategies, conceptual understanding, teacher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41BF-F14F-4BED-B8DD-3E27483D0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50883-DEB0-4DFE-B65C-960E9D6EE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B6FE-E7B8-4582-95F4-FD75225FF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6BEC-3ACD-4181-91C6-B8FF931EE3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B9A9-7DF9-4DC0-A870-4D824C388A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4F38-2B48-4202-AD2F-069809120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901B-835A-4731-8421-B366B54D8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84F3-56D0-42C5-B287-28F80C878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5B57-F111-4901-A382-DB31EEE2E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ACBF-A393-422D-B36C-FACE01872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84D4-CCF7-45E5-BA1E-BAA716EC9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8691-2F70-43F9-9173-5B2BE2617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1065-8699-443B-8A6E-2EE907A444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pminder.org/videos/religions-and-babie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KNAER_Steve%20McLean%20PS_S02_Grade%206_Lesson%20Action_28March12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E3C5-3FBB-4581-9C82-3C616EF51D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Variable Number Lines (cont.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oncepts /ideas does this bring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uld this activity be used with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tribute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848F-72F6-40B1-8039-7F1DA79413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rig Conne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5117-FD14-4434-B305-41832A64E3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5"/>
          <p:cNvCxnSpPr/>
          <p:nvPr/>
        </p:nvCxnSpPr>
        <p:spPr>
          <a:xfrm>
            <a:off x="914400" y="3352320"/>
            <a:ext cx="739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0" name="Straight Connector 7"/>
          <p:cNvSpPr/>
          <p:nvPr/>
        </p:nvSpPr>
        <p:spPr>
          <a:xfrm>
            <a:off x="13716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9"/>
          <p:cNvSpPr/>
          <p:nvPr/>
        </p:nvSpPr>
        <p:spPr>
          <a:xfrm>
            <a:off x="80010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1212840" y="3514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7620120" y="3514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umber Lines and Graph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tch this video:  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ap M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connection between variable number lines and graphical representation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3610-556C-4A87-80FB-338A799842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roup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ach person gets a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ach person picks a different value for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between 0 and 5 (could pick fr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Carefully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plot the value of the following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EAFC-CE02-468D-9E8C-2DF402046D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600200" y="4267080"/>
            <a:ext cx="5911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roup Activity (cont’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bine your number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make a graph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lowing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C1EE-4197-40B3-B657-0E160A0AB8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019920" y="762120"/>
            <a:ext cx="2895480" cy="48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eometer’s Sketchpad Demo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mo 1  (2x/3 vs. 2x/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mo 2  (Variable number lines / fun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F679-49DB-4549-B221-36BA480833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deas from today might you integrate into your work prac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you still wondering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st stickies on chart paper on your way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38C6-9B95-404D-AE6B-EC11479D3A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 and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ions as linear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 connections to fraction mea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number lines support key fraction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ng number lines to algebra and graphical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8B69-D153-4950-8F85-6E892B4C25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ession 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ction Meanings – Re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rriculum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ariable Number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umber lines and Graphical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2CBE-5645-4A49-B1AF-E25B05C094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lass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984E-6512-4AE7-9EC1-EA2954CC1F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of the following numbers to create a fraction  between 0 and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   3   4   5   6   7  8  10  12  15   20  30  40  50  100 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fractio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nd your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on a sticky note, and place it on the number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ching Card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a partner, and group cards by fraction mean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fter you are done, share at you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ones do you think your students would struggle with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23F4-27F6-407C-BE8C-16BAAC207F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ractions in the Curriculu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88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by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rainstorm curriculum connection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pdate curriculum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lour code to fraction meaning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pdate “tips for secondary teachers” list with related ins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49B3-9F2C-496E-8A7C-304C1C9152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ractions on a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tch this grade 6 class in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ctions on a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BB1A-A804-41F5-84D1-815774FC54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Key Concepts:  Fractions on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nsity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ole is defined by a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ctions hav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tioning, unit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kip counting by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gnitude is linear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A909-BF6D-4E56-9603-EA742AFB04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Variable Number Lin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a number line using the string provided.  Tape it up somewhere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the following values on the number 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0,    x,    2x,    x/3,    x+1,    (x+1)/x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C5E7-ED34-48DE-B341-A79B386FEA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19T22:54:13Z</dcterms:modified>
  <cp:revision>54</cp:revision>
  <dc:subject/>
  <dc:title>&lt;Title&gt;</dc:title>
</cp:coreProperties>
</file>